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B8A-E219-4D52-A6EA-A52D8400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275-DB29-4BAA-8DC7-A0ECBB3B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BB4-43ED-4BA7-8162-1E597A1C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26D-1C45-443E-9D2F-C082018B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41E-50C0-4DBE-A5E2-FECC9ECA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C3F-86D6-4091-AEFC-463B795B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A2D-5CC3-4ED0-9E60-E58866B1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FFC-C64C-492A-854D-C7F2B6E6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FD41-3DA9-4452-B23D-9BC68A97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0CA-F79D-4B50-9B50-AEE033F7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2D9-D7AF-4819-A076-053110E1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FEE-FDF5-4CA5-840A-678A35E0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BDC8-7F25-466A-B03D-38C08514B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1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60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RDERS  ASSOC.                 BORDERS  ASSOC  100TH                      BERWICKSHIRE  ASSOC.                    ABBOTTSFORD                                ABBOTSFORD                           ABOTTSFORD  100TH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76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CRUM                                             AYTON                                              AYTON                                                 BERWICK                                       BERWICK                                        BERWICK  100TH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RNSIDE                                    CHIRNSIDE                                       CHIRNSIDE  75TH                                COLDSTREAM                               COLDSTREAM                                    COLDSTRE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ROUGHTON  PUBLIC                           BUCCLEUGH                                       BUCCLEUGH                                   BUCCLEUGH                                       BUCCLEUGH                                   BUCCLEUGH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1800" y="620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728880" y="62064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168880" y="476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681960" y="47628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337600" y="404640"/>
            <a:ext cx="102384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31800" y="220500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728880" y="2276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2216160" y="2349360"/>
            <a:ext cx="822240" cy="95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168880" y="2133720"/>
            <a:ext cx="122544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6753240" y="227664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8408880" y="2133720"/>
            <a:ext cx="1042920" cy="113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560520" y="378936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2000160" y="37893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3728880" y="393372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240160" y="3933720"/>
            <a:ext cx="1043280" cy="1024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6824520" y="400536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337600" y="386064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704880" y="5877000"/>
            <a:ext cx="895320" cy="77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2144880" y="58053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3800520" y="5661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6824520" y="55897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8553600" y="5661000"/>
            <a:ext cx="749160" cy="95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384880" y="5300640"/>
            <a:ext cx="947520" cy="1306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2000160" y="333360"/>
            <a:ext cx="1190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3:26:42Z</dcterms:created>
  <dc:creator>JOHN YOUNG</dc:creator>
  <dc:description/>
  <dc:language>en-US</dc:language>
  <cp:lastModifiedBy>JY</cp:lastModifiedBy>
  <dcterms:modified xsi:type="dcterms:W3CDTF">2008-04-29T08:41:01Z</dcterms:modified>
  <cp:revision>28</cp:revision>
  <dc:subject/>
  <dc:title>No Slide Title</dc:title>
</cp:coreProperties>
</file>